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00F-15E2-4554-9B19-33E26B0E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C1C-5672-491F-9350-37D01112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051-49A9-4C88-9503-4CC8D557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730-E6CC-46D1-84B9-923D22B3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C3A-8992-415C-BB8E-3B3BD935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A6A-C180-4E67-920E-8DE39627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1A0-C76B-43D9-9904-39C67797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CB3-B846-43EA-8742-0F4722F8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308-9923-49FB-9D8D-81C206D1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457-63C0-48C3-94D7-5ABBFDAC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FA2-DE5D-4422-83CB-05DD3368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32C-1474-4439-B51B-F8B087A2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BBBA-645C-4E11-8CF9-01974166E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azzlejunction.com/graphics-sports/nfl-logos/minnesota-vikings-2.gif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hyperlink" Target="http://bensguide.gpo.gov/3-5/state/minnesota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980723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postcardsfrom.com/t1/980720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4648320"/>
            <a:ext cx="3657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de Latin"/>
              </a:rPr>
              <a:t>Myles 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de Latin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de Latin"/>
              </a:rPr>
              <a:t>Computer #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1143000"/>
            <a:ext cx="7848720" cy="358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1680">
                  <a:solidFill>
                    <a:srgbClr val="000000"/>
                  </a:solidFill>
                  <a:prstDash val="dash"/>
                  <a:miter/>
                </a:ln>
                <a:solidFill>
                  <a:srgbClr val="ffffff"/>
                </a:solidFill>
                <a:latin typeface="Arial Black"/>
              </a:rPr>
              <a:t>Minnesota</a:t>
            </a:r>
            <a:endParaRPr b="0" i="1" lang="en-US" sz="1800" spc="1" strike="noStrike">
              <a:ln w="31680">
                <a:solidFill>
                  <a:srgbClr val="000000"/>
                </a:solidFill>
                <a:prstDash val="dash"/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335268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09680" y="4114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632448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innesota so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/7/10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www.50states.com/minnes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Name: 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: St.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: 4,919,4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ed the Union: May 11,1858 the 3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to: The Star of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name: North Star; Bread and Butter; Go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er: Pink White Lady’s Sli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d: Common L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: Hail! 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are Four Minnesota teams that are Professional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nnesota Vikings (Footb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nnesota Wolves (Hock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nnesota Mavericks (Basketb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nnesota Twins (Baseb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4952880"/>
            <a:ext cx="2362320" cy="1692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9520" y="4938840"/>
            <a:ext cx="6095880" cy="28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zzle Junctions,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Minnesota Viking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10-1-10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ages.google.com/imgres?imgurl=http://www.dazzlejunction.com/graphics-sports/nfl-logos/minnesota-vikings-2.gif&amp;imgrefurl=http://www.dazzlejunction.com/graphics-sports/nfl-logos/%3Fpage%3D9&amp;usg=__yIiI4bdxdtpzGDluY5ozCUZg4fI=&amp;h=303&amp;w=385&amp;sz=120&amp;hl=en&amp;start=39&amp;zoom=1&amp;itbs=1&amp;tbnid=KFuYULW1Tn9KwM:&amp;tbnh=97&amp;tbnw=123&amp;prev=/images%3Fq%3Dminnesota%2Bvikings%26start%3D36%26hl%3Den%26sa%3DN%26gbv%3D2%26ndsp%3D18%26tbs%3Disch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Minnesota: Map and State Flag"/>
          <p:cNvPicPr/>
          <p:nvPr/>
        </p:nvPicPr>
        <p:blipFill>
          <a:blip r:embed="rId2"/>
          <a:srcRect l="4784" t="0" r="5594" b="57864"/>
          <a:stretch/>
        </p:blipFill>
        <p:spPr>
          <a:xfrm rot="2217000">
            <a:off x="754200" y="1393560"/>
            <a:ext cx="2895480" cy="284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Minnesota: Map and State Flag"/>
          <p:cNvPicPr/>
          <p:nvPr/>
        </p:nvPicPr>
        <p:blipFill>
          <a:blip r:embed="rId3"/>
          <a:srcRect l="0" t="47064" r="0" b="0"/>
          <a:stretch/>
        </p:blipFill>
        <p:spPr>
          <a:xfrm>
            <a:off x="5257800" y="1600200"/>
            <a:ext cx="3440160" cy="327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495288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Ben’s Guild to U.S. Government,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Arial"/>
              </a:rPr>
              <a:t>Quick Facts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Arial"/>
              </a:rPr>
              <a:t>Minnesota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9/22/10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ensguide.gpo.gov/3-5/state/minnesot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28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This is the State Flag and border of the state of Minnes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All images Copyright © 1997 - 2000 WriteLine. All Rights Reserved. Sculpture Garden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426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49528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inneapolis, M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ptember 23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8072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5943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inneapolis a big city in Minnes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 Minnesota State House"/>
          <p:cNvPicPr/>
          <p:nvPr/>
        </p:nvPicPr>
        <p:blipFill>
          <a:blip r:embed="rId2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5181480"/>
            <a:ext cx="6400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 From America, ST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ul, M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ptember 23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stcardsfrom.com/t1/98072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the capital of Minnesota it’s called Saint Pa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1:27Z</dcterms:created>
  <dc:creator>install</dc:creator>
  <dc:description/>
  <dc:language>en-US</dc:language>
  <cp:lastModifiedBy>install</cp:lastModifiedBy>
  <dcterms:modified xsi:type="dcterms:W3CDTF">2010-10-21T15:52:42Z</dcterms:modified>
  <cp:revision>14</cp:revision>
  <dc:subject/>
  <dc:title>Slide 1</dc:title>
</cp:coreProperties>
</file>